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45B9-E96A-4760-9ECC-61090864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8F6D-5943-4E3E-8B58-E00D1123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D0DD-E87C-4934-82A8-01C1AC6E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C4EB-C65D-4944-83DA-3349474B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203D-AE0D-4C65-9663-97D1BE9C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60C1-F0BA-4FB7-A679-2A9C6EC7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328D-F624-4D36-80ED-AED0C1E3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7B70-41E7-44FC-B6BE-1E719466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67E8-39BE-44AD-B9BD-77D80DB0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3617-AF69-40C8-B8CD-EA6DAE7E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16DB-9495-4C77-95A5-7C688EDA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461C-EFAC-4AA3-AEBB-1526BAD9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376F-75B8-4334-A0D6-79E1BA490B8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384 Chceš kresťanom sa stať už v mladosti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Chceš kresťanom sa stať 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už v mladosti?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chceš kresťanom sa stať 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už v mladosti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v svete každá sláv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íchuť bôľu zanechá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žia milosť požehnáva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mlad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š slúžiť Pánovi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ž v mladosti?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Chceš slúžiť Pánov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už v mladosti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 teba prišiel z neb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ťarchu kríža vzal na seb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láske pamätá na teba v mlad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Pánom neváhaj ísť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mladosti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Za Pánom neváhaj ísť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mladosti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zve ťa milostiv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ojou láskou úzkostlivo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bá o teba starostlivo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mlad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 neho rozhodni s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v mladosti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Pre neho rozhodni s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v mladosti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 budeš s Kristom chod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árne bude satan zvod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ti potom môže škodi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mladosti?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16:59:59Z</dcterms:modified>
  <cp:revision>85</cp:revision>
  <dc:subject/>
  <dc:title>Je veľký náš Pán, on slávy je Kráľ Nech do všetkých strán  spev vrúcnych znie chvál.</dc:title>
</cp:coreProperties>
</file>